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580-6DBF-40EE-A682-D1E46AB4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C99-8EDA-4221-8369-480F74B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5349B-6961-4487-8AF1-42BA62B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2041-8CDA-424C-8917-0C85B4F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CCF8-5ED5-4B0C-AAFE-74CE56CE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547B8-E6E0-46A4-A018-3FB4F20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60B52-AF4B-49E7-97CE-FD634CF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7B90-78FB-4337-82E0-7F75AEB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D3EE0-2711-408B-9D82-90941FF6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6D3D-3B15-4348-AB1B-DC179FAF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C119-C6E8-4190-B113-B510B6E2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403CB-4493-416A-9A91-373CBE6C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B0D-B9C2-449F-98AC-752C0C02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4192-2810-4033-BE01-A092593A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73D2D-3A09-40DF-A92D-67A603C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3AE8C-367F-4697-8CE4-1BA51679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64ADC-265A-47A3-9E5D-E4E358C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BF12C-0646-4C33-BAED-7AE0944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FF0AE-9661-42A4-8D5C-B76A077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430B8-7EED-4EE7-980C-125D45A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D28A6-9A45-4D75-9058-938E34F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33C58-9826-4B2D-A05D-B70539C4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42EEA-84BB-4A70-88C3-378EE5FB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D8F-A93F-47E3-B10D-3609443B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B622-AD90-4F35-A41E-702AD3AD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625D-4268-4C28-9D5F-74EEEFEB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39B5-B82D-44D5-9BA3-1A6941E4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4AED-6170-4ACD-84C5-D9F3ECF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4E018-14D4-49ED-BDCE-156DC7DC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F4CBA-3851-4076-A9D5-FE3A521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455D2-9122-474F-A53F-2E616B9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FB940-BFF3-470F-A4ED-4A4D7F6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E64BF-9A4C-4496-87DA-030726E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9C74-B95B-44AE-A312-12135111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B24C-1EA7-4B90-A6E6-B188B1B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D8E9-A310-41A8-960B-EEE48EE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C23C9-C465-4AF9-8329-8164C541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07A9-792E-491A-80D4-5D3F25F3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5BCE-7024-4D4C-8777-F90D827A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F7C66-C3D5-436E-B7DE-5B46E109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43C8F-4313-4EDD-B5C1-5E588D0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10508-C3CB-4C73-8A6D-B04F2CF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FB515-67E4-4369-8EDF-7263252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08810-C2F8-4923-8D17-CAE7CC19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5118F-6189-4F59-956A-99FF6A1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A882-CD59-4F1A-9000-0A22D54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EA69C-41BD-443E-A11B-B3E3F5B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5F69F-9DE4-469A-AA95-71361C0C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FA463-0B6D-4A9F-91C9-22F8C992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0EBA0-0EA5-4F75-BCB8-93607937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072B9-E93E-47EC-B419-3DD3297B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2F788-3BDE-4BFF-BA9F-79065573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787FD-959F-4DFA-A8E2-45E3D0C0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00939-8042-4C96-8A8A-DD8A37B8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A2DDC-205B-48BC-8BF0-2B36097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8BDAA-64CE-47B1-95C9-FEC113D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D85-B801-4E93-AA3E-18A248E7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9D02A-6B8B-4A97-8814-B23855B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30D0C-555B-489B-922B-89B48568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5EDBC-BC40-45A6-A500-F23148CF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C7E14-7ADA-416D-B29E-FD4C115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6BD2B-44FE-40E4-9728-6F28162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46F19-3503-4E1A-802E-AA2C2B26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0FE25-F8EB-469D-9F05-E8CDDE99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F6AFB-FF45-48EB-A9FE-4C38FA2E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06073-0560-4EAF-98FF-E66D49F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269B0-A953-4B2B-BF91-292C7C7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E426-9C52-47BD-89ED-7D19B816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83070-E12B-439D-A27D-4F8996D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850A1-E1FC-4854-9238-FD75A39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12DE1-7EF3-4E25-A612-66531BA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322EB-3471-4031-AEEB-DD14F240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5E72C-63DB-4C43-9CE3-54CA7D7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97C8B-848F-44F5-B480-950553A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C27C0-6EE2-4468-B4D7-B8B8DB5B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1D812-6AC8-4DC5-A5FF-0090A419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EC0E8-2CCD-462A-8417-FDA44B3F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2D261-EC2E-41AA-BA1B-4B1CFDC8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2E1F-DD88-4A1A-A436-3A285B8D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A2457-7FFB-4F8D-8665-7AD8086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9AB3F-6F50-4ACE-ACC8-80DBA892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BC360-F072-4316-A56B-EF29B175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A481D-ABE9-455F-825B-9162EF2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239B7-9AD4-4609-9931-E3347AB3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9E19E-B3E1-4F7A-B700-734B0D2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70828-9B1E-40E5-9B2A-F4CCE814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E0C25-C504-471F-BFAB-5F4355B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47A21-D61A-4BA3-AF3A-8512559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EA50B-8710-4388-B55E-8C47AF0B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1D8C-1336-48EE-A306-6BA6B24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ACFE4-6DDB-4F7D-A1AA-D17C11C3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A5F99-BE7F-4621-A659-1A4BE172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D5044-DB0A-47B5-9DD1-81D5F2F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A27C4-BBD3-4BF4-B549-9814A72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00B05-F5C9-4140-B26F-788545B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1EC33-F6EB-4D3E-A9A0-A7E97904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5E983-6E9A-46C4-BB8E-D51E2DAC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FDEDC-9C6B-49AC-8FE9-9E5CF6D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6DD81-870F-437C-B9DF-5194D57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20CCD-B036-4AA2-8B93-3750EF4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DCC-759A-42E2-A1ED-1B616AF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2BD10-2932-4527-959F-B64D0A4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9F6E2-8F5A-405C-8888-2C29CD63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8D44E-1312-4BAB-87CA-0EF7EFD8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E4E04-0D5D-4F03-922E-EF9669F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BC3D2-6C2F-400C-B6A7-56BD3E33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B409E-9AB8-4B47-9F65-F6FF496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EC6ED-A4C8-4CC8-84C2-C3773EC8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96000-1BAB-4FC4-9D47-6E3FCB84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DE916-C820-4096-A7CE-C1A2F583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03172-968E-4E8F-8FC7-DAEEF6D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B4A-FFF4-48B3-BAC0-10425B9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80CD-4A38-43F7-A403-5320A7A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7C7C9-59C2-4561-9A5D-E6F430B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34A1A-77F7-44C6-9F3F-444FE3D3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33139-A3DF-4B11-878C-416E897C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7EA72-A274-4217-AA8A-D207AA84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019EC-09DF-423B-B26E-5ADC3C3A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D574A-2188-4B5A-870F-1B2429D5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7AB0F-BB36-4CEB-A532-C349500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0B9F8-C657-41CE-A3F9-EA4EAFE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09430-128F-4B34-BAB8-31270B5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C5729-BE25-475F-831E-BFD9214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329-04FD-4437-B831-B30026F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B6EFC-F28C-435B-94A0-2701246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36E7F-AF31-4AC1-B345-6C63513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FDE3F-9A6D-4635-B542-688ABC0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5C914-82CD-4071-B4C5-6409607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41379-EE1E-4B5D-96EC-A857E96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D3901-2A96-496A-9B62-4F519DC0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DBC0E-4964-434F-830C-37702EC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AE0D0-E8F5-4739-990E-5AE0C680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B01B5-8531-4AB8-8371-069BB32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4B529-BEF4-4F74-8730-1759732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8CA3-4CAF-4004-9A20-C2F560A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0147C-C311-4877-8B7F-E377F5DD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F9261-0438-4B5A-B653-9B5987F2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5A7B4-1D43-4B9D-ACA3-C9C7D20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0BA20-3278-4799-9D01-B83B517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1402C-F0C0-4749-9A03-EA63FD9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23D9F-8C25-4161-84DA-3FF25D5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29BDC-50F6-4553-BDEC-7815258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728B5-4B14-468C-8A08-BD4B9537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AA7C2-2A04-4217-8A15-D48D722A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46EC4-D79C-406F-8B30-2A8AEF91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077-30B0-4751-99C3-E7176FF0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D5F40-A593-4412-A69F-81D3A4A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D5624-A5CA-4B50-A8C9-1ED4ADE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20DA3-B345-46D6-A554-829B2AEE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89C47-309E-4707-9986-F924761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6FF63-BEEB-4DEF-82B1-A080A35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11803-7FCC-4BCF-A4C1-195DC0E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0BB9E-7CC8-4EA1-8CC7-3484292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40743-0A0C-4A8E-BBF2-5BE58D6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11FCB-47E8-4D65-B131-041ED32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5F103-2B9D-4C26-8E25-36797A0C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CE0-81EE-410D-841E-9659F1B5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BCD3C-27DA-4F56-AA3A-BB6F65A3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6C8A7-2973-4CF7-BB5B-75D1E74A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9D1CA-A8CD-4BFE-82C3-804D9FF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6F02B-43A0-4197-9AB3-6B33CC4B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6CC20-7A1E-44A9-81D7-575CC76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F478E-75CC-4B4A-8FC6-D4B03FD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4307FC-AAEF-4DE3-9829-E55BEACA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9B521-3529-483B-B6E1-896B478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4F6FF-30FE-489E-AEA7-AD864A5F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DE564-C939-41D1-B45C-326616F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0972-BCEB-469B-9771-8CF1919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DB424-E8DC-40C7-8214-03B7FB0D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A7EA1-55C6-4404-A50E-D2D45C7F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FD528-1B18-4BE2-8B98-1BF14424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CCAF-7EED-4491-8E9B-9BB3F1E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4864-9094-41C0-89FA-F48A985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78AD-00CC-499A-BBEA-D9D2CBA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05DE-6691-46E4-BF4F-D0D76FB9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C94-FB5B-4CB6-AE29-5B852938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306F-02C6-4BE4-B042-C83A33A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9E4F-BF36-4887-8E8F-9F646B0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F916-68D2-4503-9E77-F2BABDC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D2C8-D759-46FB-8361-CCABB67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F8C7D-695E-4763-BDCF-7EA32B8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C3A3-EFCE-49FD-995A-5F4CE1C2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27DC-A37F-46C5-8EA9-7D3268A5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6DFB-CC38-4910-AF2C-96541FC3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E761-EAB6-43D1-BEBE-09E424D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AEC5-31E3-4FC0-A228-82E1F838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954-A4C7-40DC-B8C3-9FE3DD7D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26D1-72C0-4960-9709-AAD9D737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5FF7-FC84-41F5-B3D4-D27E540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F136-F70B-4D03-8FAD-69CE6B1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C7F89-9CC3-4919-9F06-7242D3D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48FC-0C9C-4275-898B-C76A218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64DC-7D38-4B20-932D-B53221D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31DB-2F27-4864-9E18-C436F8C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6956-0AA2-42A0-8E32-10C3C540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AC3F-F421-430B-A0CF-D877AC69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0CA6-CB4F-434C-8158-F36B8CB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D7-4CDA-4845-AC5D-5F11A45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C3F5-449E-45A0-AF05-25E28971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9009-A37C-419F-A66A-931D18F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EF1C-86CB-44A8-BE2B-447A07E1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B8247-D27B-442F-BBDD-DE59A16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AFA5-5E43-47D6-9F1E-1B44BBFE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5C4F-E6CA-4DC2-B34E-C8A3B25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D59C-04E4-4469-A8EC-42CBA8E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FF2C-D964-401F-9018-FE66C58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D3C3-E085-4E7F-8217-BB2A0E51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2EC0-4525-4C50-95BA-661443B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B24-E4F6-4466-8D6C-9D68508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7B68-62D3-4805-A8B2-F29BD9D7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4506B-5D9C-431D-B6E6-C314762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F705-6D42-4C97-AC5B-4303E88D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77B3-860E-4252-8110-84E14F1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1B35-9967-4027-A4FB-9DC43E81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934FC-916C-4D6F-8DC8-85EA3FE4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D1B3-35C6-4520-ACBC-139EC3B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6EE7-1B4F-4E2C-BBF0-38EA7B5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7F41-6A41-43E6-9C27-F325C0C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3AAD-DBD3-40DA-AE37-32BBA43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E17-51C8-43CE-9173-565FEC8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1107-AD9E-4F4D-93D6-8697BE7B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EA76-D190-4D4E-895F-8D3562D9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6C4C4-BB1C-470A-8F4D-6B272BDD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BA60D-2DC7-42C9-A448-E2AEEB6B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5E118-702F-43DF-A1B4-59EB154B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2C791-15F1-4C19-8CD0-105F05C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B291-B5AF-43E0-AFC8-EAFD344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2B28-926E-4AF2-93E4-CFBE86A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42C7-3EDE-4C81-95F2-D8176F5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4ECA-F8EB-4334-9CE8-11BD7709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90A-E1F3-4B25-99D4-0C2D716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9E0E-1AAB-42EB-964C-6B68AB80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4AA6-EA72-4CA4-8DC8-015629F4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E3B3-5521-4875-BCC7-EEFD8BFC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A92A-9649-4305-A6AA-00632431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D16F-A549-4186-8963-6149CE60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A147-D62D-44CE-85C5-7EBFF699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C8C4-E9C2-4AB3-B10A-A84B27BF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5230-23A6-4074-8A16-F917F495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2073-DCEF-4526-8720-3F0377B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B871-7D2A-4AA5-903E-0012AF0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BFC-58D7-4036-8897-05FE481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F266-8C7D-4CF5-A458-D445EF25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1903-DA02-45A1-9FCC-FCC60F8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D8813-8C4C-445A-BF6C-15E55B9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0FC5-5E48-419D-A515-B6F2773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D0DF2-6CE9-4FAA-A51F-721AB424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88957-2C01-4CD4-9F60-06A67696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0FF3D-04A3-4F54-A5C9-6100A68E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43E6D-9DC3-4B2B-A376-349A473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7BEA-45F8-44EB-A4F2-2C70845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70191-6B0A-4735-8B9E-AFD8715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229-1F22-4ECF-9A76-48305739E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DB7-9464-40C3-B96A-09D1633B7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243A-8F68-41A7-B5A3-8CC348AEB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6AD-93B2-487C-ADBB-F68F9D1AB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0C1E-C93B-49E1-B9E9-64F270F117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07E-ECE6-426F-9AB6-C55E49EED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55C-2D6B-4F20-BF81-04C8FB1D0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4625-DAA5-488D-B832-ADE14B25D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C053-9AB8-4E95-A043-B781840B1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FD9E-6C10-4AE9-9362-6A69448A6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F682-2284-454F-8782-D56498BB0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48F6-614F-4D99-BC48-50CE93CB6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2A3-AC44-4180-9836-691939F27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846-151A-4EF5-8589-0D522FE15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6E8-7EF6-4A7C-B46B-5B1CA43E6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81C-2AA4-4BB5-A864-3CEBC00DF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6D7-0EF3-4DD7-86F2-7EEE4FD6A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A56-676C-43EE-B0B4-004B890F67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5F9E-95FE-469E-8AAB-F363BFC71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524-E5E1-46AF-8207-F11DBC0CA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DE95-FCFC-4ED3-AAB5-060744067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F92-7E1F-451E-84D2-6837BAE72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41B-6223-44B3-8C2F-E35CD73D2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76C-CD9C-4992-98F3-5AAFFB276D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8E9-CF78-452B-B74E-6C24DE85D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165-69CA-4EF0-A2F7-EB5E74BDB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2FD-FE3A-4DF4-A4B4-093CCCB4E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7476-5D8A-414B-8B4B-7F76AE305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86D-79E3-4E6B-AD26-1A15E0A61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F0D-6F36-4E05-B568-1AC31C9FA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739-AB43-4603-A5D1-240257C47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BBA-E186-4EAE-9E3F-E364E9F76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D91A-86F0-4C45-B195-1C7A67D4A4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9B6-0AB3-4439-9232-7AD16E5C6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29D-1C49-4EFE-B5A4-74B0E7499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843E-752B-451A-8935-8C4AA41E8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8906-6C90-4D79-A318-E257EE900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537F-5913-408B-9153-3BAAC0316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5BAE-DEEB-4EE9-8657-6F08EA5F1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44C4-A93D-40FA-B847-F0AA54F58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71600" y="2016000"/>
            <a:ext cx="60105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304920" y="285840"/>
            <a:ext cx="8534160" cy="6286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755640" y="233532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755640" y="296712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900000" y="357336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84360" y="4221000"/>
            <a:ext cx="540036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11280" y="486900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598320" y="54738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611280" y="6107040"/>
            <a:ext cx="640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819000"/>
            <a:ext cx="8562960" cy="5220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364000" y="3298680"/>
            <a:ext cx="17290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208908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76720" y="4956120"/>
            <a:ext cx="13669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141960" y="5516640"/>
            <a:ext cx="1366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585720" y="1504800"/>
            <a:ext cx="7972560" cy="3848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2956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3419640" y="2579760"/>
            <a:ext cx="129528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1295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3708360" y="4797360"/>
            <a:ext cx="1871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99880" y="741240"/>
            <a:ext cx="8544240" cy="6000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667640" y="1989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667640" y="3573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667640" y="46674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596360" y="604980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609480" y="2604960"/>
            <a:ext cx="7925040" cy="1648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7351560" y="3716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281160" y="736560"/>
            <a:ext cx="8581680" cy="5429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116000" y="3111480"/>
            <a:ext cx="4896000" cy="8938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11280" y="4148280"/>
            <a:ext cx="4895640" cy="893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5157720"/>
            <a:ext cx="396108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755640" y="5661000"/>
            <a:ext cx="396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1362240" y="2614680"/>
            <a:ext cx="6419520" cy="16286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187280" y="259380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042920" y="3730680"/>
            <a:ext cx="741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8496000" cy="6134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042920" y="334152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755640" y="4019400"/>
            <a:ext cx="4249800" cy="922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1042920" y="508464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568944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611280" y="632160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85840" y="1243080"/>
            <a:ext cx="8572320" cy="4371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381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468360" y="4551480"/>
            <a:ext cx="439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7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